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d833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3A53-F59A-4C9A-BE0F-4C7F47407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cs.k12.in.us/chsteachers/Amayhew/Biology%20Notes/beyond%20dominance%20notes_files/image00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hro.palomar.edu/adapt/images/skin_color_range.jp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ciam.com/media/inline/0002E7CA-F27B-13A1-AFAA83414B7FFE9F_1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hro.palomar.edu/adapt/images/skin_color_range.jp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ciam.com/media/inline/0002E7CA-F27B-13A1-AFAA83414B7FFE9F_1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hro.palomar.edu/adapt/images/skin_color_range.jp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ciam.com/media/inline/0002E7CA-F27B-13A1-AFAA83414B7FFE9F_1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hro.palomar.edu/adapt/images/skin_color_range.jp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ciam.com/media/inline/0002E7CA-F27B-13A1-AFAA83414B7FFE9F_1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hro.palomar.edu/adapt/images/skin_color_range.jp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ciam.com/media/inline/0002E7CA-F27B-13A1-AFAA83414B7FFE9F_1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wu.edu/~darwin/BiSc150/One/rose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wu.edu/~darwin/BiSc150/One/rose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91E-6CE1-451D-BB6F-117B964C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03D-6465-4E72-9E90-DE14639E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573-9226-40C9-8F3E-1E839A86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AB9-CA21-4417-AF04-6EE23428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67EB-0B6C-405C-AB9F-6BAF11E0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6ADA-F04B-4F86-90A8-3EA5C6F8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14A0-17CC-4E6E-A39D-EA782018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87BA-2DCE-49A7-A4D1-AB65581C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CB6B-B304-4ADD-A008-657D3420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274A-FE91-440B-AE1B-9C2A9AA7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695C-BF16-4C63-8D3E-5FE8629A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E1DC-AF5C-4D4E-B6EB-6E2CDADF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12EC-121C-43E2-A1F3-738BFAB4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755A-987A-4B32-8B03-7F520B2A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AF9F-A4CF-49D4-9917-DE8657DD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201D-7D4B-482E-A2B4-9BE4DB2F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7D0F-5183-45D5-B590-70410CA1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F6D-F141-440F-B48C-503772D3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5152-E169-4A61-9011-7F36649B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8B69-1CBF-4037-B48F-036A0330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E1D-5926-4B56-9B8F-8F45E7EF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985-312D-4778-BFE9-B96893C0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F3D-9A43-47C5-AB45-72C9C6E3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C79C-29FD-46B6-AE33-A8389AC9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d8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a452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953A-E0DA-4AE7-90AE-609874B1DB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d833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1787-BDAC-439E-BA6B-09776C8DA7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d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d833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a452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affiliates.allposters.com/link/redirect.asp?aid=455226&amp;c=c&amp;search=13208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affiliates.allposters.com/link/redirect.asp?aid=455226&amp;c=c&amp;search=13208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ustombeautyproducts.com/wp-content/uploads/2007/08/082107-hair-color-examples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custombeautyproducts.com/wp-content/uploads/2007/08/082107-hair-color-examples.jpg" TargetMode="External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hyperlink" Target="http://custombeautyproducts.com/wp-content/uploads/2007/08/082107-hair-color-examples.jpg" TargetMode="External"/><Relationship Id="rId7" Type="http://schemas.openxmlformats.org/officeDocument/2006/relationships/image" Target="../media/image27.jpeg"/><Relationship Id="rId8" Type="http://schemas.openxmlformats.org/officeDocument/2006/relationships/image" Target="../media/image27.jpeg"/><Relationship Id="rId9" Type="http://schemas.openxmlformats.org/officeDocument/2006/relationships/image" Target="../media/image27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8.jpeg"/><Relationship Id="rId7" Type="http://schemas.openxmlformats.org/officeDocument/2006/relationships/image" Target="../media/image27.jpeg"/><Relationship Id="rId8" Type="http://schemas.openxmlformats.org/officeDocument/2006/relationships/image" Target="../media/image31.pn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d833"/>
                </a:solidFill>
                <a:latin typeface="Arial"/>
              </a:rPr>
              <a:t>Mendelian Exceptions</a:t>
            </a:r>
            <a:endParaRPr b="1" lang="en-US" sz="48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pter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Codominance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se cattle or horses actually have both red and white hairs intermixed, or are spotted. Roan is a third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___________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you cross a roan with a white…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295280" y="4343400"/>
          <a:ext cx="2743200" cy="2057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762120" y="5562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4495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809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3809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541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54100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23880" y="4343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43434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rcRect l="0" t="0" r="4594" b="8089"/>
          <a:stretch/>
        </p:blipFill>
        <p:spPr>
          <a:xfrm>
            <a:off x="5410080" y="3886200"/>
            <a:ext cx="3581640" cy="2330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181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heno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4800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5791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48006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5791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80"/>
                            </p:stCondLst>
                            <p:childTnLst>
                              <p:par>
                                <p:cTn id="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8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Codominance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alusian chickens also show this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ttern of inherit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you cross a black (BB) chick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ith a white (WW) chick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ou get black+white speckled (BW) chick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3250" t="0" r="0" b="27778"/>
          <a:stretch/>
        </p:blipFill>
        <p:spPr>
          <a:xfrm>
            <a:off x="380880" y="4191120"/>
            <a:ext cx="2808360" cy="2446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79760" y="4191120"/>
            <a:ext cx="2416320" cy="2438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4110120"/>
            <a:ext cx="26668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120"/>
                            </p:stCondLst>
                            <p:childTnLst>
                              <p:par>
                                <p:cTn id="5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880"/>
                            </p:stCondLst>
                            <p:childTnLst>
                              <p:par>
                                <p:cTn id="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480"/>
                            </p:stCondLst>
                            <p:childTnLst>
                              <p:par>
                                <p:cTn id="5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Multiple Allele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this pattern of inheritance, the genes have more than _____ alleles controlling them and are therefore said to have multiple alleles.  No individual has more than _____ alleles, but there are more than _____ possible alleles in a population, so a ______ will be expressed in more than two form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2133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3505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05120" y="3962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4419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r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Multiple Allele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38188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od type in humans is an example of this inheritance patter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______ different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od group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, B, O, and AB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e produc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y ______ different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l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, B, and 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f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4572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h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715000" y="2438280"/>
          <a:ext cx="3047760" cy="3616560"/>
        </p:xfrm>
        <a:graphic>
          <a:graphicData uri="http://schemas.openxmlformats.org/drawingml/2006/table">
            <a:tbl>
              <a:tblPr/>
              <a:tblGrid>
                <a:gridCol w="1415880"/>
                <a:gridCol w="1631880"/>
              </a:tblGrid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6949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6949"/>
                          </a:solidFill>
                          <a:latin typeface="Arial"/>
                        </a:rPr>
                        <a:t>G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694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6949"/>
                          </a:solidFill>
                          <a:latin typeface="Arial"/>
                        </a:rPr>
                        <a:t>AA or A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694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6949"/>
                          </a:solidFill>
                          <a:latin typeface="Arial"/>
                        </a:rPr>
                        <a:t>BB or 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6949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6949"/>
                          </a:solidFill>
                          <a:latin typeface="Arial"/>
                        </a:rPr>
                        <a:t>AB on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6949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6949"/>
                          </a:solidFill>
                          <a:latin typeface="Arial"/>
                        </a:rPr>
                        <a:t>OO on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1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Multiple Allele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619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s of Blood type cros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8229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2630520"/>
            <a:ext cx="8229600" cy="2589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95880" y="2746440"/>
            <a:ext cx="15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6949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6949"/>
                </a:solidFill>
                <a:latin typeface="Arial"/>
              </a:rPr>
              <a:t>(Blood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Multiple Allele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17760" y="282240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6949"/>
                </a:solidFill>
                <a:latin typeface="Arial"/>
              </a:rPr>
              <a:t>Geno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14479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7300"/>
                </a:solidFill>
                <a:latin typeface="Arial"/>
              </a:rPr>
              <a:t>Blood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920" y="2666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6949"/>
                </a:solidFill>
                <a:latin typeface="Arial"/>
              </a:rPr>
              <a:t>Antigen 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6949"/>
                </a:solidFill>
                <a:latin typeface="Arial"/>
              </a:rPr>
              <a:t>Red Blood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6949"/>
                </a:solidFill>
                <a:latin typeface="Arial"/>
              </a:rPr>
              <a:t>Safe Transfu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3048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6949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45240" y="30243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6949"/>
                </a:solidFill>
                <a:latin typeface="Arial"/>
              </a:rPr>
              <a:t>Fr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Multiple Allele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example of _______ hair color, which has at least  four different alleles, (on text pg 320) is seen in these different Rex rabb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9880" y="1676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abb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Rex rabbit - broken black"/>
          <p:cNvPicPr/>
          <p:nvPr/>
        </p:nvPicPr>
        <p:blipFill>
          <a:blip r:embed="rId1"/>
          <a:srcRect l="0" t="0" r="0" b="22890"/>
          <a:stretch/>
        </p:blipFill>
        <p:spPr>
          <a:xfrm>
            <a:off x="4114800" y="4008600"/>
            <a:ext cx="4819680" cy="24685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Rex rabbit - tri-color"/>
          <p:cNvPicPr/>
          <p:nvPr/>
        </p:nvPicPr>
        <p:blipFill>
          <a:blip r:embed="rId2"/>
          <a:stretch/>
        </p:blipFill>
        <p:spPr>
          <a:xfrm>
            <a:off x="762120" y="3581280"/>
            <a:ext cx="4267080" cy="2457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tri-color Rex"/>
          <p:cNvPicPr/>
          <p:nvPr/>
        </p:nvPicPr>
        <p:blipFill>
          <a:blip r:embed="rId3"/>
          <a:stretch/>
        </p:blipFill>
        <p:spPr>
          <a:xfrm>
            <a:off x="4572000" y="3867120"/>
            <a:ext cx="4419720" cy="27576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broken lynx Rex"/>
          <p:cNvPicPr/>
          <p:nvPr/>
        </p:nvPicPr>
        <p:blipFill>
          <a:blip r:embed="rId4"/>
          <a:stretch/>
        </p:blipFill>
        <p:spPr>
          <a:xfrm>
            <a:off x="762120" y="3581280"/>
            <a:ext cx="3962160" cy="27892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Rex rabbit - californian"/>
          <p:cNvPicPr/>
          <p:nvPr/>
        </p:nvPicPr>
        <p:blipFill>
          <a:blip r:embed="rId5"/>
          <a:stretch/>
        </p:blipFill>
        <p:spPr>
          <a:xfrm>
            <a:off x="4648320" y="3809880"/>
            <a:ext cx="4343400" cy="2502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Rex - castor"/>
          <p:cNvPicPr/>
          <p:nvPr/>
        </p:nvPicPr>
        <p:blipFill>
          <a:blip r:embed="rId6"/>
          <a:stretch/>
        </p:blipFill>
        <p:spPr>
          <a:xfrm>
            <a:off x="762120" y="3657600"/>
            <a:ext cx="3962160" cy="25509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chocolate Rex rabbit"/>
          <p:cNvPicPr/>
          <p:nvPr/>
        </p:nvPicPr>
        <p:blipFill>
          <a:blip r:embed="rId7"/>
          <a:stretch/>
        </p:blipFill>
        <p:spPr>
          <a:xfrm>
            <a:off x="4724280" y="3809880"/>
            <a:ext cx="4038840" cy="27464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Chinchilla Rex "/>
          <p:cNvPicPr/>
          <p:nvPr/>
        </p:nvPicPr>
        <p:blipFill>
          <a:blip r:embed="rId8"/>
          <a:stretch/>
        </p:blipFill>
        <p:spPr>
          <a:xfrm>
            <a:off x="685800" y="3733920"/>
            <a:ext cx="4114800" cy="27651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red Rex rabbit - junior color"/>
          <p:cNvPicPr/>
          <p:nvPr/>
        </p:nvPicPr>
        <p:blipFill>
          <a:blip r:embed="rId9"/>
          <a:stretch/>
        </p:blipFill>
        <p:spPr>
          <a:xfrm>
            <a:off x="4800600" y="3809880"/>
            <a:ext cx="4191120" cy="26481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Rex rabbit - sable"/>
          <p:cNvPicPr/>
          <p:nvPr/>
        </p:nvPicPr>
        <p:blipFill>
          <a:blip r:embed="rId10"/>
          <a:stretch/>
        </p:blipFill>
        <p:spPr>
          <a:xfrm>
            <a:off x="457200" y="3962520"/>
            <a:ext cx="4514760" cy="25095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Rex rabbit - white"/>
          <p:cNvPicPr/>
          <p:nvPr/>
        </p:nvPicPr>
        <p:blipFill>
          <a:blip r:embed="rId11"/>
          <a:stretch/>
        </p:blipFill>
        <p:spPr>
          <a:xfrm>
            <a:off x="4724280" y="3733920"/>
            <a:ext cx="4419720" cy="25095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Rex rabbits - castor and chocolate agouti (not recognized)"/>
          <p:cNvPicPr/>
          <p:nvPr/>
        </p:nvPicPr>
        <p:blipFill>
          <a:blip r:embed="rId12"/>
          <a:stretch/>
        </p:blipFill>
        <p:spPr>
          <a:xfrm>
            <a:off x="838080" y="3581280"/>
            <a:ext cx="39816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000"/>
                            </p:stCondLst>
                            <p:childTnLst>
                              <p:par>
                                <p:cTn id="6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6000"/>
                            </p:stCondLst>
                            <p:childTnLst>
                              <p:par>
                                <p:cTn id="6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80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8000"/>
                            </p:stCondLst>
                            <p:childTnLst>
                              <p:par>
                                <p:cTn id="6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7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24000"/>
                            </p:stCondLst>
                            <p:childTnLst>
                              <p:par>
                                <p:cTn id="7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7" dur="20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Polygenic Trait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its controlled by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wo or more 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w 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id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range of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heno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henotyp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produced by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nteractio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 more tha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 ge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809880" y="3048120"/>
            <a:ext cx="4953240" cy="33321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066680" y="48006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p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Polygenic Trait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se are called ___________ traits, which means “having _______ genes”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humans, _____ color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_____ color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1523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olyge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52880" y="19810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66680" y="3078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8120" y="25146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1219320"/>
            <a:ext cx="9143640" cy="5638320"/>
            <a:chOff x="0" y="1219320"/>
            <a:chExt cx="9143640" cy="5638320"/>
          </a:xfrm>
        </p:grpSpPr>
        <p:pic>
          <p:nvPicPr>
            <p:cNvPr id="309" name="" descr=""/>
            <p:cNvPicPr/>
            <p:nvPr/>
          </p:nvPicPr>
          <p:blipFill>
            <a:blip r:embed="rId1"/>
            <a:srcRect l="0" t="50799" r="50019" b="0"/>
            <a:stretch/>
          </p:blipFill>
          <p:spPr>
            <a:xfrm>
              <a:off x="4114800" y="3069360"/>
              <a:ext cx="151164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2"/>
            <a:srcRect l="0" t="781" r="0" b="0"/>
            <a:stretch/>
          </p:blipFill>
          <p:spPr>
            <a:xfrm>
              <a:off x="5626800" y="1836000"/>
              <a:ext cx="3516840" cy="502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3"/>
            <a:srcRect l="0" t="0" r="0" b="49222"/>
            <a:stretch/>
          </p:blipFill>
          <p:spPr>
            <a:xfrm>
              <a:off x="5290920" y="1219320"/>
              <a:ext cx="302328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4"/>
            <a:srcRect l="55574" t="50799" r="-5537" b="0"/>
            <a:stretch/>
          </p:blipFill>
          <p:spPr>
            <a:xfrm>
              <a:off x="4199040" y="1747800"/>
              <a:ext cx="151164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EXAMPLES OF A VARIETY OF SKIN COLORS ILLUSTRATED BY PHOTOS"/>
            <p:cNvPicPr/>
            <p:nvPr/>
          </p:nvPicPr>
          <p:blipFill>
            <a:blip r:embed="rId5"/>
            <a:stretch/>
          </p:blipFill>
          <p:spPr>
            <a:xfrm>
              <a:off x="0" y="4479120"/>
              <a:ext cx="5637240" cy="2312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Polygenic Trait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se are called ___________ traits, which means “having _______ genes”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humans, _____ color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_____ color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_____ colo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038480" y="1523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olyge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52880" y="19810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3078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8120" y="25146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76520" y="36576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80880" y="1752480"/>
            <a:ext cx="8554320" cy="4952880"/>
            <a:chOff x="380880" y="1752480"/>
            <a:chExt cx="8554320" cy="4952880"/>
          </a:xfrm>
        </p:grpSpPr>
        <p:grpSp>
          <p:nvGrpSpPr>
            <p:cNvPr id="322" name=""/>
            <p:cNvGrpSpPr/>
            <p:nvPr/>
          </p:nvGrpSpPr>
          <p:grpSpPr>
            <a:xfrm>
              <a:off x="2133720" y="1752480"/>
              <a:ext cx="6801480" cy="4952880"/>
              <a:chOff x="2133720" y="1752480"/>
              <a:chExt cx="6801480" cy="4952880"/>
            </a:xfrm>
          </p:grpSpPr>
          <p:pic>
            <p:nvPicPr>
              <p:cNvPr id="323" name="" descr="protecting hair color">
                <a:hlinkClick r:id="rId1"/>
              </p:cNvPr>
              <p:cNvPicPr/>
              <p:nvPr/>
            </p:nvPicPr>
            <p:blipFill>
              <a:blip r:embed="rId2"/>
              <a:srcRect l="27264" t="0" r="43659" b="78615"/>
              <a:stretch/>
            </p:blipFill>
            <p:spPr>
              <a:xfrm>
                <a:off x="2133720" y="4724280"/>
                <a:ext cx="1695600" cy="19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" descr="protecting hair color">
                <a:hlinkClick r:id="rId3"/>
              </p:cNvPr>
              <p:cNvPicPr/>
              <p:nvPr/>
            </p:nvPicPr>
            <p:blipFill>
              <a:blip r:embed="rId4"/>
              <a:srcRect l="56358" t="56146" r="0" b="0"/>
              <a:stretch/>
            </p:blipFill>
            <p:spPr>
              <a:xfrm>
                <a:off x="7133760" y="3832560"/>
                <a:ext cx="1801440" cy="28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" descr=""/>
              <p:cNvPicPr/>
              <p:nvPr/>
            </p:nvPicPr>
            <p:blipFill>
              <a:blip r:embed="rId5"/>
              <a:srcRect l="76288" t="0" r="-2393" b="11121"/>
              <a:stretch/>
            </p:blipFill>
            <p:spPr>
              <a:xfrm>
                <a:off x="5394240" y="2247480"/>
                <a:ext cx="1988280" cy="247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6" name="" descr="protecting hair color">
                <a:hlinkClick r:id="rId6"/>
              </p:cNvPr>
              <p:cNvPicPr/>
              <p:nvPr/>
            </p:nvPicPr>
            <p:blipFill>
              <a:blip r:embed="rId7"/>
              <a:srcRect l="0" t="33337" r="72232" b="39439"/>
              <a:stretch/>
            </p:blipFill>
            <p:spPr>
              <a:xfrm>
                <a:off x="3851280" y="4228560"/>
                <a:ext cx="1590480" cy="247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protecting hair color"/>
              <p:cNvPicPr/>
              <p:nvPr/>
            </p:nvPicPr>
            <p:blipFill>
              <a:blip r:embed="rId8"/>
              <a:srcRect l="0" t="0" r="72753" b="78615"/>
              <a:stretch/>
            </p:blipFill>
            <p:spPr>
              <a:xfrm>
                <a:off x="7223760" y="1752480"/>
                <a:ext cx="1670040" cy="208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protecting hair color"/>
              <p:cNvPicPr/>
              <p:nvPr/>
            </p:nvPicPr>
            <p:blipFill>
              <a:blip r:embed="rId9"/>
              <a:srcRect l="2688" t="63168" r="46346" b="0"/>
              <a:stretch/>
            </p:blipFill>
            <p:spPr>
              <a:xfrm>
                <a:off x="5378760" y="4624920"/>
                <a:ext cx="1812960" cy="2080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29" name="" descr=""/>
            <p:cNvPicPr/>
            <p:nvPr/>
          </p:nvPicPr>
          <p:blipFill>
            <a:blip r:embed="rId10"/>
            <a:stretch/>
          </p:blipFill>
          <p:spPr>
            <a:xfrm>
              <a:off x="380880" y="4724280"/>
              <a:ext cx="1795680" cy="190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Mendel’s Principles Revisited 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heritance of biological _____________ is determined by individual units known as 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ring sexual reproduction, genes are passed from parents to 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wo or more forms of the gene for a single _____ exist, some forms of the gene may be _________ and others may be recess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22096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3733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offsp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2666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48006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r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5334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domi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Polygenic Trait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se are called ___________ traits, which means “having _______ genes”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humans, _____ color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_____ color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_____ colo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just a few of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many traits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__________ by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ny genes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38480" y="1523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olyge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19810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3078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914400" y="5105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ntro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25146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76520" y="36576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3430440" cy="3581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protecting hair color"/>
          <p:cNvPicPr/>
          <p:nvPr/>
        </p:nvPicPr>
        <p:blipFill>
          <a:blip r:embed="rId2"/>
          <a:srcRect l="2688" t="63168" r="46346" b="0"/>
          <a:stretch/>
        </p:blipFill>
        <p:spPr>
          <a:xfrm>
            <a:off x="6781680" y="266688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protecting hair color"/>
          <p:cNvPicPr/>
          <p:nvPr/>
        </p:nvPicPr>
        <p:blipFill>
          <a:blip r:embed="rId3"/>
          <a:srcRect l="56358" t="57658" r="0" b="0"/>
          <a:stretch/>
        </p:blipFill>
        <p:spPr>
          <a:xfrm>
            <a:off x="7238880" y="4191120"/>
            <a:ext cx="1438560" cy="2133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rcRect l="1540" t="34312" r="67703" b="35970"/>
          <a:stretch/>
        </p:blipFill>
        <p:spPr>
          <a:xfrm>
            <a:off x="6172200" y="4876920"/>
            <a:ext cx="1066680" cy="6919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"/>
          <a:srcRect l="67703" t="34312" r="1540" b="35970"/>
          <a:stretch/>
        </p:blipFill>
        <p:spPr>
          <a:xfrm>
            <a:off x="3276720" y="6066000"/>
            <a:ext cx="1218960" cy="792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6"/>
          <a:srcRect l="76288" t="0" r="15736" b="11121"/>
          <a:stretch/>
        </p:blipFill>
        <p:spPr>
          <a:xfrm>
            <a:off x="3962520" y="3276720"/>
            <a:ext cx="609480" cy="24764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protecting hair color"/>
          <p:cNvPicPr/>
          <p:nvPr/>
        </p:nvPicPr>
        <p:blipFill>
          <a:blip r:embed="rId7"/>
          <a:srcRect l="3729" t="0" r="72753" b="92167"/>
          <a:stretch/>
        </p:blipFill>
        <p:spPr>
          <a:xfrm>
            <a:off x="5334120" y="2666880"/>
            <a:ext cx="1441440" cy="7621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8"/>
          <a:srcRect l="12501" t="6099" r="12501" b="30225"/>
          <a:stretch/>
        </p:blipFill>
        <p:spPr>
          <a:xfrm>
            <a:off x="6934320" y="4191120"/>
            <a:ext cx="990360" cy="5508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9"/>
          <a:srcRect l="3997" t="1518" r="6000" b="7573"/>
          <a:stretch/>
        </p:blipFill>
        <p:spPr>
          <a:xfrm>
            <a:off x="6629400" y="5842080"/>
            <a:ext cx="152388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500"/>
                            </p:stCondLst>
                            <p:childTnLst>
                              <p:par>
                                <p:cTn id="8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30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3500"/>
                            </p:stCondLst>
                            <p:childTnLst>
                              <p:par>
                                <p:cTn id="8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450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d833"/>
                </a:solidFill>
                <a:latin typeface="Arial"/>
              </a:rPr>
              <a:t>Polygenic Inheritance</a:t>
            </a:r>
            <a:br>
              <a:rPr sz="3900"/>
            </a:b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4956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 additive effect of 2 or more genes on one charac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􀁡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kin pigment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at least 3 gen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air col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at least 4 gen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155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Rules of addition and</a:t>
            </a:r>
            <a:br>
              <a:rPr sz="3900"/>
            </a:b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multiplication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800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ll tongue (R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eyelashes (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ft chin (C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1600200"/>
            <a:ext cx="32763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tongue roll (r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eyelashes (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ft chin (C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3886200"/>
            <a:ext cx="83818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ability of having a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ugh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/4 (xx, xx, xy, x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l tongu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/4 (Rr, Rr, rr, r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eyelash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/4 (Ll, Ll, ll, 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ft chi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/4 (Cc, Cc, Cc, c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2/4 x 2/4 x 2/4 x 3/4 = 24/256 = 9.37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Polygenic Trait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metimes the combination of the different  genes results in continuou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__________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of these traits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combined size of all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parts from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ad to foot, determines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_______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of the person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1440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var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3429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00200" y="4343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e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rcRect l="0" t="0" r="0" b="32209"/>
          <a:stretch/>
        </p:blipFill>
        <p:spPr>
          <a:xfrm>
            <a:off x="5943600" y="2666880"/>
            <a:ext cx="292752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Gene for human height revealed"/>
          <p:cNvPicPr/>
          <p:nvPr/>
        </p:nvPicPr>
        <p:blipFill>
          <a:blip r:embed="rId2"/>
          <a:srcRect l="0" t="0" r="0" b="13397"/>
          <a:stretch/>
        </p:blipFill>
        <p:spPr>
          <a:xfrm>
            <a:off x="4038480" y="4962600"/>
            <a:ext cx="2254320" cy="19717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Mitch Ritter and Stephanie McGillivray"/>
          <p:cNvPicPr/>
          <p:nvPr/>
        </p:nvPicPr>
        <p:blipFill>
          <a:blip r:embed="rId3"/>
          <a:srcRect l="0" t="0" r="0" b="11549"/>
          <a:stretch/>
        </p:blipFill>
        <p:spPr>
          <a:xfrm>
            <a:off x="1905120" y="4952880"/>
            <a:ext cx="1989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Mendel’s Principles Revisited 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68680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sms typically have ____copies of each gene, (one from each _______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organism’s _____ of genes (2 alleles) are segregated from each other when ________ are form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les for different ______ usually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gregate _____________ of one another. (through meio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7300"/>
                </a:solidFill>
                <a:latin typeface="Arial"/>
              </a:rPr>
              <a:t>(Law of Independent Assor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4800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depend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22096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1752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3733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gam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43434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2819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d833"/>
                </a:solidFill>
                <a:latin typeface="Arial"/>
              </a:rPr>
              <a:t>Independent Assortment in Peas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52280" y="1447920"/>
            <a:ext cx="5410080" cy="5409720"/>
            <a:chOff x="152280" y="1447920"/>
            <a:chExt cx="5410080" cy="5409720"/>
          </a:xfrm>
        </p:grpSpPr>
        <p:sp>
          <p:nvSpPr>
            <p:cNvPr id="175" name=""/>
            <p:cNvSpPr/>
            <p:nvPr/>
          </p:nvSpPr>
          <p:spPr>
            <a:xfrm>
              <a:off x="152280" y="1447920"/>
              <a:ext cx="5410080" cy="5409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rcRect l="0" t="0" r="-11954" b="0"/>
            <a:stretch/>
          </p:blipFill>
          <p:spPr>
            <a:xfrm>
              <a:off x="427320" y="1709640"/>
              <a:ext cx="5043240" cy="505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5410080" y="2209680"/>
            <a:ext cx="33530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Round 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Round g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Wrinkled 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Wrinkled g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3429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Incomplete Dominance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incomplete dominance, neither allele is __________ so there is a blending of  ______ when two different alleles for the same trait occur togethe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lors </a:t>
            </a: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blend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toge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______________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individuals =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  3</a:t>
            </a:r>
            <a:r>
              <a:rPr b="1" lang="en-US" sz="3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phenotype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2057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domi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ra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4114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eterozyg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7536" r="0" b="10882"/>
          <a:stretch/>
        </p:blipFill>
        <p:spPr>
          <a:xfrm>
            <a:off x="4952880" y="3733920"/>
            <a:ext cx="4038840" cy="2374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029200" y="6095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6095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6095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</a:rPr>
              <a:t>p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Incomplete Dominance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Four O’ Clocks, if you cross a red _____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which is always pure) with a white _____ (that is also always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ure) , you get a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ink _____ (which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s always hybrid /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terozygo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0120" y="1676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21337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W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505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724280" y="2819520"/>
            <a:ext cx="4267440" cy="3962160"/>
            <a:chOff x="4724280" y="2819520"/>
            <a:chExt cx="4267440" cy="3962160"/>
          </a:xfrm>
        </p:grpSpPr>
        <p:sp>
          <p:nvSpPr>
            <p:cNvPr id="197" name=""/>
            <p:cNvSpPr/>
            <p:nvPr/>
          </p:nvSpPr>
          <p:spPr>
            <a:xfrm>
              <a:off x="4724280" y="2819520"/>
              <a:ext cx="4267440" cy="39621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4875480" y="2980800"/>
              <a:ext cx="3888360" cy="364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"/>
          <p:cNvGrpSpPr/>
          <p:nvPr/>
        </p:nvGrpSpPr>
        <p:grpSpPr>
          <a:xfrm>
            <a:off x="6172200" y="4419720"/>
            <a:ext cx="2590920" cy="2286000"/>
            <a:chOff x="6172200" y="4419720"/>
            <a:chExt cx="2590920" cy="2286000"/>
          </a:xfrm>
        </p:grpSpPr>
        <p:sp>
          <p:nvSpPr>
            <p:cNvPr id="200" name=""/>
            <p:cNvSpPr/>
            <p:nvPr/>
          </p:nvSpPr>
          <p:spPr>
            <a:xfrm>
              <a:off x="6172200" y="4419720"/>
              <a:ext cx="2590920" cy="22096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67480" y="4419720"/>
              <a:ext cx="0" cy="22860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72200" y="5486400"/>
              <a:ext cx="25909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696080" y="5791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579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01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Incomplete Dominance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another flower, if red ____ and blue ____ flowers are crossed, they produce a 3</a:t>
            </a:r>
            <a:r>
              <a:rPr b="1" lang="en-US" sz="3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purple ____ flow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would be the genotype ratio and phenotype ratio if you crossed two purple flower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1752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2209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B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2666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Incomplete Dominance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ross of two purple flow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____ X 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are gamete possibilitie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enotype ratio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833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d833"/>
                </a:solidFill>
                <a:latin typeface="Arial"/>
              </a:rPr>
              <a:t>1RR : 2RB : 1B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henotype ratio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d833"/>
                </a:solidFill>
                <a:latin typeface="Arial"/>
              </a:rPr>
              <a:t>1red : 2 purple : 1 bl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n you have a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terozygous red or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ybrid blue flower? 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791320" y="3581280"/>
          <a:ext cx="2819160" cy="2362320"/>
        </p:xfrm>
        <a:graphic>
          <a:graphicData uri="http://schemas.openxmlformats.org/drawingml/2006/table">
            <a:tbl>
              <a:tblPr/>
              <a:tblGrid>
                <a:gridCol w="1409400"/>
                <a:gridCol w="140976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334120" y="502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3886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3048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0120" y="3048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4800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48769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3657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3657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4114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4114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r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5334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r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67480" y="53341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2057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20574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76920" y="62485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3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9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2" dur="1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d833"/>
                </a:solidFill>
                <a:latin typeface="Arial"/>
              </a:rPr>
              <a:t>Codominance</a:t>
            </a:r>
            <a:endParaRPr b="1" lang="en-US" sz="3900" spc="-1" strike="noStrike">
              <a:solidFill>
                <a:srgbClr val="ffd8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th _______ contribute to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henotyp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organism by showin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up simultaneously  (at t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same time) in heterozygo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2698920" cy="4047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971800" y="3429000"/>
            <a:ext cx="5943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ividual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524"/>
              </a:spcBef>
              <a:buClr>
                <a:srgbClr val="ffd8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cattle and horses, if you cross a pu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R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with a pu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WW), you get (RW)  which produces the colo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br>
              <a:rPr sz="3200"/>
            </a:b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1523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lle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4343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4800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wh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638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o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'Connor</dc:creator>
  <dc:description/>
  <dc:language>en-US</dc:language>
  <cp:lastModifiedBy>joconnor</cp:lastModifiedBy>
  <dcterms:modified xsi:type="dcterms:W3CDTF">2010-04-29T13:28:33Z</dcterms:modified>
  <cp:revision>18</cp:revision>
  <dc:subject>Mendel's Exceptions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